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9388-AD0D-4EC1-8D20-B9F1603B9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knowledge = stuff other people know too, even if you had to look it up [e.g. Abraham Lincoln’s birthday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4D4E-508F-43E5-AB86-08EB8EB50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F08B-033B-44D2-A238-E3A0630A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ADF0-20D6-4E3C-83F3-CEEFCEBD2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7A3A-7573-4356-8068-3C8126769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5811-59BF-4C41-A46B-39B1583CF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4915-2D45-44A2-B5E7-539AE27C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DCB9-B98B-4AFF-A568-E1491E26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B464D-1143-4FCD-B8F4-62393CCF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51CE-C387-4806-92D3-C536E257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C236-A192-4D9E-ACA3-E7C5D9B9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90FA-4854-490A-9146-FCD1BE43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4E0E-122C-4678-A5F6-E6C945D2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5E92-4612-4437-AFD1-EB5786E3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071F-8CEF-4EBC-9855-D2EB84C0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1B258-3030-409B-80E0-F5F29114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39F95-1A0E-4B51-B4A7-DBD1113BB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4592-0372-4BB1-8B36-381ABEDE3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2F0A-F1F2-48E0-AF3C-A31BD88D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8D31-F18F-4E16-8B0A-7C9D269C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EE98-FE05-4B84-A032-027224AB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C953-46A7-4CD6-B2F4-2EAB2495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B0FE-B413-4130-A8BE-CFCE256D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1E73-EB28-462E-93C5-198AC948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2E91-F3C9-4226-857A-19FB0E55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9901-B9CF-47D8-98C1-3EF5B3313EF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67FE-9B15-41D3-B548-C10F05F5867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wipo.int/about-ip/en/" TargetMode="External"/><Relationship Id="rId2" Type="http://schemas.openxmlformats.org/officeDocument/2006/relationships/hyperlink" Target="http://en.wikipedia.org/wiki/Intellectual_property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ckerd.edu/academics/writingcenter/tips/sources.php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8487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Simple Introduction to Intellectual Property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d Speechmak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efinition: Intellectual Propert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llectual property refers to creations of the mind: inventions, literary and artistic works, and symbols, names, images, and designs used in commer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ource: World Intellectual Property Organization, </a:t>
            </a:r>
            <a:r>
              <a:rPr b="0" lang="en-US" sz="2000" spc="-1" strike="noStrike" u="sng">
                <a:solidFill>
                  <a:srgbClr val="e4005c"/>
                </a:solidFill>
                <a:uFillTx/>
                <a:latin typeface="Arial"/>
                <a:hlinkClick r:id="rId1"/>
              </a:rPr>
              <a:t>What is intellectual property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retrieved July 24, 200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rm "intellectual property" denotes the specific legal rights which authors, inventors and other IP holders may hold and exercise, and not the intellectual work itsel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ource: Wikipedia, </a:t>
            </a:r>
            <a:r>
              <a:rPr b="0" lang="en-US" sz="2000" spc="-1" strike="noStrike" u="sng">
                <a:solidFill>
                  <a:srgbClr val="e4005c"/>
                </a:solidFill>
                <a:uFillTx/>
                <a:latin typeface="Arial"/>
                <a:hlinkClick r:id="rId2"/>
              </a:rPr>
              <a:t>Intellectual Proper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ieved July 24, 200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Rationale—why do we need to protect people’s thoughts?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ularly in an academic setting, all you “own” are your thoughts and work pro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omeone could steal your ideas or products, what would be the incentive to cre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How IP relates to public speaking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audience needs to trust you—honesty is essential to your cred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audience wants to know what *you* have to say…whether you believe it or not, you can find a topic to speak on authoritatively and interesting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omplication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entral method of instruction sometimes is imitation/modeling. This can be useful for instructional purposes…but it is not a creative exerc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ardest part is knowing what is common knowledge and what is someone else’s intellectual prope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0039"/>
                </a:solidFill>
                <a:latin typeface="Arial"/>
              </a:rPr>
              <a:t>Basic Guidelines: What should be cited?</a:t>
            </a:r>
            <a:br>
              <a:rPr sz="1200"/>
            </a:br>
            <a:r>
              <a:rPr b="0" lang="en-US" sz="1000" spc="-1" strike="noStrike">
                <a:solidFill>
                  <a:srgbClr val="8c0039"/>
                </a:solidFill>
                <a:latin typeface="Arial"/>
              </a:rPr>
              <a:t>(Source: Eckerd College Writing Center, </a:t>
            </a:r>
            <a:r>
              <a:rPr b="0" lang="en-US" sz="1000" spc="-1" strike="noStrike" u="sng">
                <a:solidFill>
                  <a:srgbClr val="e4005c"/>
                </a:solidFill>
                <a:uFillTx/>
                <a:latin typeface="Arial"/>
                <a:hlinkClick r:id="rId1"/>
              </a:rPr>
              <a:t>Documenting Source Material</a:t>
            </a:r>
            <a:r>
              <a:rPr b="0" lang="en-US" sz="1000" spc="-1" strike="noStrike" u="sng">
                <a:solidFill>
                  <a:srgbClr val="8c0039"/>
                </a:solidFill>
                <a:uFillTx/>
                <a:latin typeface="Arial"/>
              </a:rPr>
              <a:t>, retrieved July 24, 2007.)</a:t>
            </a:r>
            <a:endParaRPr b="0" lang="en-US" sz="1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verything that isn’t common knowledg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Quo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c36c03"/>
              </a:buClr>
              <a:buSzPct val="70000"/>
              <a:buFont typeface="Arial"/>
              <a:buAutoNum type="alpha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nal Phr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c36c03"/>
              </a:buClr>
              <a:buSzPct val="70000"/>
              <a:buFont typeface="Arial"/>
              <a:buAutoNum type="alpha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c36c03"/>
              </a:buClr>
              <a:buSzPct val="70000"/>
              <a:buFont typeface="Arial"/>
              <a:buAutoNum type="alpha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sentence or two explaining it and how it supports your thesi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araphr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)        Signal Phr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)        Ci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Significantly change the wording and/or 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)        Explain how the information pertains to and/or supports your thesi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How to attribute work to others…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ing ve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ggests, argues, claims, asserts, find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rding to….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owerPoint sli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: Wikipedia, Intellectual Property, retrieved July 24, 2007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s this wrong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 someone else’s PowerPoint and using it, but speaking your own words about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 someone else’s speech online and borrowing key ideas? …minor po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4T16:25:48Z</dcterms:created>
  <dc:creator>walkinnet</dc:creator>
  <dc:description/>
  <dc:language>en-US</dc:language>
  <cp:lastModifiedBy>walkinnet</cp:lastModifiedBy>
  <dcterms:modified xsi:type="dcterms:W3CDTF">2007-07-28T14:04:57Z</dcterms:modified>
  <cp:revision>12</cp:revision>
  <dc:subject/>
  <dc:title>A Simple Introduction to Intellectual Property  and Speechmaking</dc:title>
</cp:coreProperties>
</file>